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940965-CD46-4B6C-B15F-CAC8E8AA27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35829A-2DDB-463A-A8FD-BF7807E9B5D9}"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A1E15-0BA6-4F26-83CD-C233A6D07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A6843-2A55-411F-B614-5D742BBE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DC602-7752-4030-AC84-85A53E39F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5F5B4-B602-42B6-81BE-2E8650F0B9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5681C-45C5-435E-951D-372CEE0FDE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B1AC1-4D4E-496A-AACA-14FBF39F4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23753-D7A5-4C6A-877F-23E19CBB1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ECCC59-E1B0-4BE1-A178-3338C0B4D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1F21E-6082-47A5-8C9F-8943ECF962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A5B16-04C6-4B71-B727-BF3BB7856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5F19-9670-486A-BC3A-4C1A0842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1F539-D47B-4E5B-8FF2-C6BB04BF78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BA1A-AE21-4663-A48E-BDCA3B3E2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F1F2E-6BBD-439D-ACA4-77956FFB3E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E3CB6-5C7D-4E29-B187-D76907211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A0592D-A84C-4D3E-922A-08875AD662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A73F0-2ACD-4C0D-8558-BA7648F7A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F0B73F-C1AE-43A7-9FCF-86F35EDA3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AE91C-F9B1-4FFA-91EF-1A859E82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1A67B-E0D8-4505-AA0A-D0BD79F5E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F2376-308C-4325-8FE2-1618597E7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CFF1D-A086-450A-A082-7913EF1CC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7B1AD-8B6F-4716-A6EF-CF24489BE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753C1-BB3C-4791-AEBB-739036942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B55E0-6E54-4981-9BBF-0F219B175706}"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39B472-B5BC-438D-9417-251EB28513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BD6833-4F39-4A37-9B4F-1717007B90AE}"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F7EDA1-E0DA-412B-A3BB-83253E2804C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Der Austausch von Daten </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3200" spc="-1" strike="noStrike">
                <a:solidFill>
                  <a:srgbClr val="000000"/>
                </a:solidFill>
                <a:latin typeface="Arial"/>
                <a:ea typeface="Arial"/>
              </a:rPr>
              <a:t>zur Entwicklung der Pandemie</a:t>
            </a:r>
            <a:endParaRPr b="0" lang="en-US" sz="3200" spc="-1" strike="noStrike">
              <a:solidFill>
                <a:srgbClr val="000000"/>
              </a:solidFill>
              <a:latin typeface="Arial"/>
            </a:endParaRPr>
          </a:p>
        </p:txBody>
      </p:sp>
      <p:sp>
        <p:nvSpPr>
          <p:cNvPr id="90" name="Rectangle 1"/>
          <p:cNvSpPr/>
          <p:nvPr/>
        </p:nvSpPr>
        <p:spPr>
          <a:xfrm>
            <a:off x="560520" y="5646600"/>
            <a:ext cx="7826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Vorbereitung auf die Zeit nach der Pandemie – Die wesentlichen Faktoren für die Resilienz der Gesundheitssysteme in der Großregion</a:t>
            </a:r>
            <a:endParaRPr b="0" lang="en-US" sz="1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000000"/>
                </a:solidFill>
                <a:latin typeface="Arial"/>
              </a:rPr>
              <a:t>Workshop - 28. Ap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Geschlossene Grenzen - Grenzkontrollen - Bürgerinitiativen</a:t>
            </a:r>
            <a:endParaRPr b="0" lang="en-US" sz="2400" spc="-1" strike="noStrike">
              <a:solidFill>
                <a:srgbClr val="000000"/>
              </a:solidFill>
              <a:latin typeface="Arial"/>
            </a:endParaRPr>
          </a:p>
        </p:txBody>
      </p:sp>
      <p:pic>
        <p:nvPicPr>
          <p:cNvPr id="114"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5" name="Picture 4" descr="dessin"/>
          <p:cNvPicPr/>
          <p:nvPr/>
        </p:nvPicPr>
        <p:blipFill>
          <a:blip r:embed="rId2"/>
          <a:stretch/>
        </p:blipFill>
        <p:spPr>
          <a:xfrm rot="21438000">
            <a:off x="1127160" y="2447640"/>
            <a:ext cx="3316320" cy="2771640"/>
          </a:xfrm>
          <a:prstGeom prst="rect">
            <a:avLst/>
          </a:prstGeom>
          <a:ln w="0">
            <a:noFill/>
          </a:ln>
        </p:spPr>
      </p:pic>
      <p:sp>
        <p:nvSpPr>
          <p:cNvPr id="116" name="ZoneTexte 3"/>
          <p:cNvSpPr/>
          <p:nvPr/>
        </p:nvSpPr>
        <p:spPr>
          <a:xfrm>
            <a:off x="254160" y="33336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Vielen Dank für Ihre Aufmerksamkeit</a:t>
            </a:r>
            <a:endParaRPr b="0" lang="en-US" sz="2400" spc="-1" strike="noStrike">
              <a:solidFill>
                <a:srgbClr val="000000"/>
              </a:solidFill>
              <a:latin typeface="Arial"/>
            </a:endParaRPr>
          </a:p>
        </p:txBody>
      </p:sp>
      <p:sp>
        <p:nvSpPr>
          <p:cNvPr id="117"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Geschäftsführ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EVTZ Eurodistrik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8"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Kontak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19"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0"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Drei Gebiete, die kooperieren</a:t>
            </a:r>
            <a:endParaRPr b="0" lang="en-US" sz="2000" spc="-1" strike="noStrike">
              <a:solidFill>
                <a:srgbClr val="000000"/>
              </a:solidFill>
              <a:latin typeface="Arial"/>
            </a:endParaRPr>
          </a:p>
        </p:txBody>
      </p:sp>
      <p:sp>
        <p:nvSpPr>
          <p:cNvPr id="121"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2" name="Picture 8" descr="Afficher l'image d'origine"/>
          <p:cNvPicPr/>
          <p:nvPr/>
        </p:nvPicPr>
        <p:blipFill>
          <a:blip r:embed="rId3"/>
          <a:stretch/>
        </p:blipFill>
        <p:spPr>
          <a:xfrm>
            <a:off x="3206880" y="5602320"/>
            <a:ext cx="218880" cy="285840"/>
          </a:xfrm>
          <a:prstGeom prst="rect">
            <a:avLst/>
          </a:prstGeom>
          <a:ln w="0">
            <a:noFill/>
          </a:ln>
        </p:spPr>
      </p:pic>
      <p:pic>
        <p:nvPicPr>
          <p:cNvPr id="123"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sp>
        <p:nvSpPr>
          <p:cNvPr id="92" name="Rectangle 3"/>
          <p:cNvSpPr/>
          <p:nvPr/>
        </p:nvSpPr>
        <p:spPr>
          <a:xfrm>
            <a:off x="681120" y="1996920"/>
            <a:ext cx="7926480" cy="429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800" spc="-1" strike="noStrike">
                <a:solidFill>
                  <a:srgbClr val="000000"/>
                </a:solidFill>
                <a:latin typeface="Arial"/>
              </a:rPr>
              <a:t>„</a:t>
            </a:r>
            <a:r>
              <a:rPr b="0" i="1" lang="de-DE" sz="2800" spc="-1" strike="noStrike">
                <a:solidFill>
                  <a:srgbClr val="000000"/>
                </a:solidFill>
                <a:latin typeface="Arial"/>
              </a:rPr>
              <a:t>Deutschland hat am 16. März dieses Jahres seine Grenzen zu Frankreich geschlossen. Diese zuerst „unmerkliche“ Schließung durch die Bundespolizei wurde kurze Zeit später zur harten Realität, als Straßensperren jeden Grenzübergang unmöglich machten.“</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000000"/>
                </a:solidFill>
                <a:latin typeface="Arial"/>
              </a:rPr>
              <a:t>Gemeinsamer Aufruf für eine sofortige Wiedereröffnung der Grenzen - 4. Mai 2020 - Deutsche und französische Abgeordnete aus dem PAMINA-Raum</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4366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Grenzschließungen - Grenzkontrollen</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Unsere grenzüberschreitende Zusammenarbeit am Oberrhein und im Eurodistrikt PAMINA hat noch nie so düstere Zeiten erlebt. Geschlossene Grenze, begrenzter Durchgang für Grenzgänger, mehr als zaghafte oder zu Beginn der Krise gar nicht vorhandene Solidarität im Gesundheitswesen, unterschiedliche Eindämmung in den Gebieten - all dies sind Situationen, die man vor einigen Wochen noch nicht einmal in Betracht gezogen hätte. Und als die Region Grand Est vom Robert-Koch-Institut zu einem Risikogebiet wie China oder Italien erklärt wurde, zerbrach die Zusammenarbeit, Misstrauen machte sich breit mit all den schlechten menschlichen Seiten.</a:t>
            </a:r>
            <a:endParaRPr b="0" lang="en-US" sz="1800" spc="-1" strike="noStrike">
              <a:solidFill>
                <a:srgbClr val="000000"/>
              </a:solidFill>
              <a:latin typeface="Arial"/>
            </a:endParaRPr>
          </a:p>
        </p:txBody>
      </p:sp>
      <p:sp>
        <p:nvSpPr>
          <p:cNvPr id="101" name="Rectangle 3"/>
          <p:cNvSpPr/>
          <p:nvPr/>
        </p:nvSpPr>
        <p:spPr>
          <a:xfrm>
            <a:off x="465120" y="4467240"/>
            <a:ext cx="829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a die Organe des Eurodistrikts nicht mehr zusammentreten konnten, hielten wir den Kontakt zu unseren Mitgliedern aufrecht und versuchten, die Situation in den verschiedenen Gebieten </a:t>
            </a:r>
            <a:r>
              <a:rPr b="1" i="1" lang="de-DE" sz="1800" spc="-1" strike="noStrike" u="sng">
                <a:solidFill>
                  <a:srgbClr val="000000"/>
                </a:solidFill>
                <a:uFillTx/>
                <a:latin typeface="Arial"/>
              </a:rPr>
              <a:t>durch einen täglichen Newsletter zu erklären</a:t>
            </a:r>
            <a:r>
              <a:rPr b="0" i="1" lang="de-DE" sz="1800" spc="-1" strike="noStrike">
                <a:solidFill>
                  <a:srgbClr val="000000"/>
                </a:solidFill>
                <a:latin typeface="Arial"/>
              </a:rPr>
              <a:t>.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Eurodistrikt PAMINA hat durchgehend vom 24. März 2020 bis zum 15. Juni 2020, an Wochenenden und Feiertagen, 84 zweisprachige Newsletter veröffentlicht - danach wöchentlich bis Dezember 2021</a:t>
            </a:r>
            <a:endParaRPr b="0" lang="en-US" sz="1800" spc="-1" strike="noStrike">
              <a:solidFill>
                <a:srgbClr val="000000"/>
              </a:solidFill>
              <a:latin typeface="Arial"/>
            </a:endParaRPr>
          </a:p>
        </p:txBody>
      </p:sp>
      <p:sp>
        <p:nvSpPr>
          <p:cNvPr id="105" name="Rectangle 5"/>
          <p:cNvSpPr/>
          <p:nvPr/>
        </p:nvSpPr>
        <p:spPr>
          <a:xfrm>
            <a:off x="369720" y="3894120"/>
            <a:ext cx="43261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Mangels der Möglichkeit, sich zu treffen und ohne echte Kompetenzen, um etwas zu unternehmen, stellte die Veröffentlichung eines Bulletins über die Gesundheitssituation in den drei Gebieten des Eurodistrikts eine wichtige Verbindung dar</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ar ein großer Erfolg, sogar die Bundespolizei, deutsche und französische Ministerien (Gesundheit, Verteidigung...) baten darum, ihn zu erhalten (mehr als 500 Empfänge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Auch die Europäische Kommission hat diesen Ansatz hervorgehoben </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1800" spc="-1" strike="noStrike">
                <a:solidFill>
                  <a:srgbClr val="000000"/>
                </a:solidFill>
                <a:latin typeface="Arial"/>
              </a:rPr>
              <a:t>Der Newsletter wurde so konzipiert, dass er die in den drei Gebieten verfügbaren Informationen weitergibt, ohne sie zu verzerren, zu analysieren oder zu kommentieren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COVID 19 - Ein grenzüberschreitendes Bindeglied: der tägliche Newsletter des Eurodistrikts</a:t>
            </a:r>
            <a:endParaRPr b="0" lang="en-US" sz="2400" spc="-1" strike="noStrike">
              <a:solidFill>
                <a:srgbClr val="000000"/>
              </a:solidFill>
              <a:latin typeface="Arial"/>
            </a:endParaRPr>
          </a:p>
        </p:txBody>
      </p:sp>
      <p:sp>
        <p:nvSpPr>
          <p:cNvPr id="110" name="Rectangle 7"/>
          <p:cNvSpPr/>
          <p:nvPr/>
        </p:nvSpPr>
        <p:spPr>
          <a:xfrm>
            <a:off x="754200" y="2428920"/>
            <a:ext cx="21445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de-DE" sz="2000" spc="-1" strike="noStrike">
                <a:solidFill>
                  <a:srgbClr val="000000"/>
                </a:solidFill>
                <a:latin typeface="Arial"/>
              </a:rPr>
              <a:t>Im Jahr 2020 erreichte der EVTZ Eurodistrikt PAMINA den 3. Platz für seinen Newsletter zur Covid-19-Pandemie.</a:t>
            </a:r>
            <a:endParaRPr b="0" lang="en-US" sz="2000" spc="-1" strike="noStrike">
              <a:solidFill>
                <a:srgbClr val="000000"/>
              </a:solidFill>
              <a:latin typeface="Arial"/>
            </a:endParaRPr>
          </a:p>
        </p:txBody>
      </p:sp>
      <p:pic>
        <p:nvPicPr>
          <p:cNvPr id="111" name="Image 2" descr=""/>
          <p:cNvPicPr/>
          <p:nvPr/>
        </p:nvPicPr>
        <p:blipFill>
          <a:blip r:embed="rId2"/>
          <a:stretch/>
        </p:blipFill>
        <p:spPr>
          <a:xfrm>
            <a:off x="3738600" y="2362320"/>
            <a:ext cx="4292640" cy="3225600"/>
          </a:xfrm>
          <a:prstGeom prst="rect">
            <a:avLst/>
          </a:prstGeom>
          <a:ln w="0">
            <a:noFill/>
          </a:ln>
        </p:spPr>
      </p:pic>
      <p:sp>
        <p:nvSpPr>
          <p:cNvPr id="112"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Sail of Papenburg Preis für grenzüberschreitende Regionen.</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SCHLOESSER Annabell</cp:lastModifiedBy>
  <dcterms:modified xsi:type="dcterms:W3CDTF">2022-04-19T14:53:55Z</dcterms:modified>
  <cp:revision>97</cp:revision>
  <dc:subject/>
  <dc:title>Diapositive 1</dc:title>
</cp:coreProperties>
</file>